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9D8-E357-4A18-AC02-D16ED1D1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A8C-1F2A-4A13-A214-E1DBEBC1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980-020E-4F7D-90F5-1443A699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F47-55EA-47FC-8068-DFD73A32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C88-5F6E-4865-B3B4-AECB18E2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31FB-812B-4724-85D4-A400891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1A76-355B-42DE-BDDD-F9537800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3F2-433D-4491-BBD8-4688F77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54D-AC99-4E22-9E55-7B0669B1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91D2-0A7A-4067-8FB9-B129D876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EC26-E48A-4609-9DB5-8D6D82D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189-67DD-42C9-A9EA-0F7E1D6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70E-2CC7-4971-BFAD-7DC64EB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1CCC-DE11-4ADC-A285-86C863A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466-7029-463B-A2CC-B662033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4EA5-FF8F-42D3-A983-18F1C2CD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17B-D6B8-4845-9D44-0E36525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E70-5A7A-4E3D-B05E-386752E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478-69DA-484F-94EB-B6CC6103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D8B-20B3-46C1-907E-4AF39E1C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A60-BB60-41F8-8F1A-39023C45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2EF-9719-4507-9042-56E3CF7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60B-CCE7-4FB3-B73D-5207032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7C6-B134-4895-8E00-B929D62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068-78DB-403E-BA02-E88A1CA6E7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5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90FC-E1B0-43D2-86CF-A575F27525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无标题"/>
          <p:cNvPicPr/>
          <p:nvPr/>
        </p:nvPicPr>
        <p:blipFill>
          <a:blip r:embed="rId1"/>
          <a:stretch/>
        </p:blipFill>
        <p:spPr>
          <a:xfrm>
            <a:off x="3040200" y="419040"/>
            <a:ext cx="6110280" cy="576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03:38:00Z</dcterms:created>
  <dc:creator>User</dc:creator>
  <dc:description/>
  <dc:language>en-US</dc:language>
  <cp:lastModifiedBy>烨董</cp:lastModifiedBy>
  <dcterms:modified xsi:type="dcterms:W3CDTF">2019-08-15T14:25:52Z</dcterms:modified>
  <cp:revision>5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07</vt:lpwstr>
  </property>
  <property fmtid="{D5CDD505-2E9C-101B-9397-08002B2CF9AE}" pid="3" name="KSORubyTemplateID">
    <vt:lpwstr>8</vt:lpwstr>
  </property>
</Properties>
</file>