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613D-8DA1-49D1-94A3-7705F74F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920-59CE-4B3C-B25F-C00BE6C3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8298-A06B-47DA-822C-807EC238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F2A0-0106-4DDC-AE42-F9D0F7DC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ED9-3F12-450C-8391-1534FC9A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734C-A613-4EA1-B3C9-1DA2AEA6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C75-0897-4AB8-B148-A2E9A1E4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355-914B-4437-B960-B47649F7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F6FE-5791-4BC0-8193-87C10E89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F73-99B5-4FBD-A10E-F13DE663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885-D73C-49C5-A8F0-F7AB6474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5209-D7C0-4BA6-B4D7-4BD789E9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5F26-52A7-4967-B427-EAA2F102EE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0" y="0"/>
            <a:ext cx="12193560" cy="685800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45"/>
          <p:cNvSpPr/>
          <p:nvPr/>
        </p:nvSpPr>
        <p:spPr>
          <a:xfrm>
            <a:off x="0" y="0"/>
            <a:ext cx="12193560" cy="685800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100320" y="339840"/>
            <a:ext cx="3875040" cy="616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7T03:38:00Z</dcterms:created>
  <dc:creator>User</dc:creator>
  <dc:description/>
  <dc:language>en-US</dc:language>
  <cp:lastModifiedBy>PC</cp:lastModifiedBy>
  <dcterms:modified xsi:type="dcterms:W3CDTF">2019-06-08T12:46:00Z</dcterms:modified>
  <cp:revision>55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  <property fmtid="{D5CDD505-2E9C-101B-9397-08002B2CF9AE}" pid="3" name="KSORubyTemplateID">
    <vt:lpwstr>8</vt:lpwstr>
  </property>
</Properties>
</file>