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3D7-5226-4536-9D71-F711A2AF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D6C-096B-49D8-B0B3-20F40E2B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543-F07E-4774-B527-7E95F6A5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F88-3939-4E7A-A8C7-DBDFF269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908-B239-4B8E-B912-F1A422F7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253-AC8E-466A-BFE5-3DEE37DA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A65-949B-4735-9E53-198CFDD2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36E-EDEE-474C-9E98-2AF92F2B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23C-12E4-49A8-B643-08F79320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98F-C752-4A08-87B2-0958993E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937-A204-46CA-BBB1-A11DEF76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E4F-C87A-4533-A3D0-F8E06325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CFF0-65BD-4651-97BE-70FB31AD1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3" descr=""/>
          <p:cNvPicPr/>
          <p:nvPr/>
        </p:nvPicPr>
        <p:blipFill>
          <a:blip r:embed="rId1"/>
          <a:stretch/>
        </p:blipFill>
        <p:spPr>
          <a:xfrm>
            <a:off x="4651200" y="2263680"/>
            <a:ext cx="2313000" cy="21751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21"/>
          <p:cNvGrpSpPr/>
          <p:nvPr/>
        </p:nvGrpSpPr>
        <p:grpSpPr>
          <a:xfrm>
            <a:off x="4414680" y="228600"/>
            <a:ext cx="2573640" cy="2286000"/>
            <a:chOff x="4414680" y="228600"/>
            <a:chExt cx="2573640" cy="2286000"/>
          </a:xfrm>
        </p:grpSpPr>
        <p:pic>
          <p:nvPicPr>
            <p:cNvPr id="43" name="Content Placeholder 4" descr=""/>
            <p:cNvPicPr/>
            <p:nvPr/>
          </p:nvPicPr>
          <p:blipFill>
            <a:blip r:embed="rId2"/>
            <a:stretch/>
          </p:blipFill>
          <p:spPr>
            <a:xfrm>
              <a:off x="4414680" y="228600"/>
              <a:ext cx="25736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9"/>
            <p:cNvSpPr/>
            <p:nvPr/>
          </p:nvSpPr>
          <p:spPr>
            <a:xfrm>
              <a:off x="5040720" y="1783800"/>
              <a:ext cx="1748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Box 4"/>
          <p:cNvSpPr/>
          <p:nvPr/>
        </p:nvSpPr>
        <p:spPr>
          <a:xfrm>
            <a:off x="5734440" y="2057400"/>
            <a:ext cx="40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5"/>
          <p:cNvGrpSpPr/>
          <p:nvPr/>
        </p:nvGrpSpPr>
        <p:grpSpPr>
          <a:xfrm>
            <a:off x="4457880" y="195120"/>
            <a:ext cx="2409840" cy="2068560"/>
            <a:chOff x="4457880" y="195120"/>
            <a:chExt cx="2409840" cy="2068560"/>
          </a:xfrm>
        </p:grpSpPr>
        <p:grpSp>
          <p:nvGrpSpPr>
            <p:cNvPr id="47" name="Group 3"/>
            <p:cNvGrpSpPr/>
            <p:nvPr/>
          </p:nvGrpSpPr>
          <p:grpSpPr>
            <a:xfrm>
              <a:off x="4457880" y="434520"/>
              <a:ext cx="231120" cy="1829160"/>
              <a:chOff x="4457880" y="434520"/>
              <a:chExt cx="231120" cy="1829160"/>
            </a:xfrm>
          </p:grpSpPr>
          <p:sp>
            <p:nvSpPr>
              <p:cNvPr id="48" name="Rectangle 1"/>
              <p:cNvSpPr/>
              <p:nvPr/>
            </p:nvSpPr>
            <p:spPr>
              <a:xfrm>
                <a:off x="4537080" y="434520"/>
                <a:ext cx="138240" cy="1829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Box 2"/>
              <p:cNvSpPr/>
              <p:nvPr/>
            </p:nvSpPr>
            <p:spPr>
              <a:xfrm rot="16200000">
                <a:off x="3828600" y="1082520"/>
                <a:ext cx="1489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WC (decimal fraction)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TextBox 5"/>
            <p:cNvSpPr/>
            <p:nvPr/>
          </p:nvSpPr>
          <p:spPr>
            <a:xfrm>
              <a:off x="4608720" y="239400"/>
              <a:ext cx="29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2"/>
            <p:cNvSpPr/>
            <p:nvPr/>
          </p:nvSpPr>
          <p:spPr>
            <a:xfrm>
              <a:off x="4537080" y="228240"/>
              <a:ext cx="2120760" cy="17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3"/>
            <p:cNvSpPr/>
            <p:nvPr/>
          </p:nvSpPr>
          <p:spPr>
            <a:xfrm>
              <a:off x="4912920" y="195120"/>
              <a:ext cx="195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. Soil moisture content for 20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5515200" y="2122560"/>
              <a:ext cx="636480" cy="8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8"/>
            <p:cNvSpPr/>
            <p:nvPr/>
          </p:nvSpPr>
          <p:spPr>
            <a:xfrm>
              <a:off x="5274720" y="1752480"/>
              <a:ext cx="117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flood: July 29-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5299200" y="1176120"/>
              <a:ext cx="8254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4"/>
          <p:cNvGrpSpPr/>
          <p:nvPr/>
        </p:nvGrpSpPr>
        <p:grpSpPr>
          <a:xfrm>
            <a:off x="4470480" y="2217600"/>
            <a:ext cx="2538360" cy="1974960"/>
            <a:chOff x="4470480" y="2217600"/>
            <a:chExt cx="2538360" cy="1974960"/>
          </a:xfrm>
        </p:grpSpPr>
        <p:sp>
          <p:nvSpPr>
            <p:cNvPr id="57" name="TextBox 21"/>
            <p:cNvSpPr/>
            <p:nvPr/>
          </p:nvSpPr>
          <p:spPr>
            <a:xfrm rot="16200000">
              <a:off x="3854160" y="3048120"/>
              <a:ext cx="1463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VWC (decimal fraction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34"/>
            <p:cNvSpPr/>
            <p:nvPr/>
          </p:nvSpPr>
          <p:spPr>
            <a:xfrm>
              <a:off x="4873320" y="2274840"/>
              <a:ext cx="30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4"/>
            <p:cNvSpPr/>
            <p:nvPr/>
          </p:nvSpPr>
          <p:spPr>
            <a:xfrm>
              <a:off x="4887720" y="2258640"/>
              <a:ext cx="2121120" cy="17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7"/>
            <p:cNvSpPr/>
            <p:nvPr/>
          </p:nvSpPr>
          <p:spPr>
            <a:xfrm>
              <a:off x="5611680" y="4105440"/>
              <a:ext cx="636480" cy="8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4981680" y="3756240"/>
              <a:ext cx="198288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40"/>
            <p:cNvSpPr/>
            <p:nvPr/>
          </p:nvSpPr>
          <p:spPr>
            <a:xfrm>
              <a:off x="5140440" y="2554200"/>
              <a:ext cx="91440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41"/>
            <p:cNvSpPr/>
            <p:nvPr/>
          </p:nvSpPr>
          <p:spPr>
            <a:xfrm>
              <a:off x="5084280" y="3733920"/>
              <a:ext cx="1832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flood: July 2, July 18, Aug. 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35"/>
            <p:cNvSpPr/>
            <p:nvPr/>
          </p:nvSpPr>
          <p:spPr>
            <a:xfrm>
              <a:off x="4947840" y="2217600"/>
              <a:ext cx="196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. Soil moisture content for 201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"/>
          <p:cNvGrpSpPr/>
          <p:nvPr/>
        </p:nvGrpSpPr>
        <p:grpSpPr>
          <a:xfrm>
            <a:off x="4470480" y="4307040"/>
            <a:ext cx="2616120" cy="2103480"/>
            <a:chOff x="4470480" y="4307040"/>
            <a:chExt cx="2616120" cy="2103480"/>
          </a:xfrm>
        </p:grpSpPr>
        <p:sp>
          <p:nvSpPr>
            <p:cNvPr id="66" name="TextBox 36"/>
            <p:cNvSpPr/>
            <p:nvPr/>
          </p:nvSpPr>
          <p:spPr>
            <a:xfrm>
              <a:off x="4876200" y="4316400"/>
              <a:ext cx="1773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. Soil moisture content for 20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2"/>
            <p:cNvGrpSpPr/>
            <p:nvPr/>
          </p:nvGrpSpPr>
          <p:grpSpPr>
            <a:xfrm>
              <a:off x="4470480" y="4363920"/>
              <a:ext cx="2616120" cy="2046600"/>
              <a:chOff x="4470480" y="4363920"/>
              <a:chExt cx="2616120" cy="2046600"/>
            </a:xfrm>
          </p:grpSpPr>
          <p:grpSp>
            <p:nvGrpSpPr>
              <p:cNvPr id="68" name="Group 8"/>
              <p:cNvGrpSpPr/>
              <p:nvPr/>
            </p:nvGrpSpPr>
            <p:grpSpPr>
              <a:xfrm>
                <a:off x="4773240" y="4363920"/>
                <a:ext cx="2313360" cy="1914120"/>
                <a:chOff x="4773240" y="4363920"/>
                <a:chExt cx="2313360" cy="1914120"/>
              </a:xfrm>
            </p:grpSpPr>
            <p:pic>
              <p:nvPicPr>
                <p:cNvPr id="69" name="Chart 3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73240" y="4363920"/>
                  <a:ext cx="2313360" cy="191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Rectangle 24"/>
                <p:cNvSpPr/>
                <p:nvPr/>
              </p:nvSpPr>
              <p:spPr>
                <a:xfrm>
                  <a:off x="5329800" y="5514120"/>
                  <a:ext cx="52200" cy="60120"/>
                </a:xfrm>
                <a:prstGeom prst="rect">
                  <a:avLst/>
                </a:prstGeom>
                <a:solidFill>
                  <a:srgbClr val="c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5"/>
                <p:cNvSpPr/>
                <p:nvPr/>
              </p:nvSpPr>
              <p:spPr>
                <a:xfrm>
                  <a:off x="6321960" y="5501520"/>
                  <a:ext cx="52200" cy="61920"/>
                </a:xfrm>
                <a:prstGeom prst="rect">
                  <a:avLst/>
                </a:prstGeom>
                <a:solidFill>
                  <a:srgbClr val="c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Oval 26"/>
                <p:cNvSpPr/>
                <p:nvPr/>
              </p:nvSpPr>
              <p:spPr>
                <a:xfrm>
                  <a:off x="6353640" y="5515920"/>
                  <a:ext cx="61920" cy="7272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Oval 27"/>
                <p:cNvSpPr/>
                <p:nvPr/>
              </p:nvSpPr>
              <p:spPr>
                <a:xfrm>
                  <a:off x="5326920" y="5598360"/>
                  <a:ext cx="63360" cy="712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Isosceles Triangle 28"/>
                <p:cNvSpPr/>
                <p:nvPr/>
              </p:nvSpPr>
              <p:spPr>
                <a:xfrm>
                  <a:off x="6334560" y="5531760"/>
                  <a:ext cx="65160" cy="7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2d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Isosceles Triangle 29"/>
                <p:cNvSpPr/>
                <p:nvPr/>
              </p:nvSpPr>
              <p:spPr>
                <a:xfrm>
                  <a:off x="5321880" y="5625360"/>
                  <a:ext cx="65160" cy="7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2d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Diamond 30"/>
                <p:cNvSpPr/>
                <p:nvPr/>
              </p:nvSpPr>
              <p:spPr>
                <a:xfrm>
                  <a:off x="5299560" y="5274360"/>
                  <a:ext cx="63360" cy="71280"/>
                </a:xfrm>
                <a:prstGeom prst="diamond">
                  <a:avLst/>
                </a:prstGeom>
                <a:solidFill>
                  <a:srgbClr val="ffc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Diamond 31"/>
                <p:cNvSpPr/>
                <p:nvPr/>
              </p:nvSpPr>
              <p:spPr>
                <a:xfrm>
                  <a:off x="6266160" y="5330160"/>
                  <a:ext cx="63360" cy="71280"/>
                </a:xfrm>
                <a:prstGeom prst="diamond">
                  <a:avLst/>
                </a:prstGeom>
                <a:solidFill>
                  <a:srgbClr val="ffc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TextBox 22"/>
              <p:cNvSpPr/>
              <p:nvPr/>
            </p:nvSpPr>
            <p:spPr>
              <a:xfrm rot="16200000">
                <a:off x="3807360" y="5112000"/>
                <a:ext cx="1557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WC (decimal fraction)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4"/>
              <p:cNvSpPr/>
              <p:nvPr/>
            </p:nvSpPr>
            <p:spPr>
              <a:xfrm>
                <a:off x="5745600" y="6179400"/>
                <a:ext cx="429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Box 42"/>
              <p:cNvSpPr/>
              <p:nvPr/>
            </p:nvSpPr>
            <p:spPr>
              <a:xfrm>
                <a:off x="5136840" y="5861160"/>
                <a:ext cx="1467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flood: July 25, Aug. 2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Box 35"/>
            <p:cNvSpPr/>
            <p:nvPr/>
          </p:nvSpPr>
          <p:spPr>
            <a:xfrm>
              <a:off x="4969080" y="4307040"/>
              <a:ext cx="195480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. Soil moisture content for 20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3"/>
          <p:cNvSpPr/>
          <p:nvPr/>
        </p:nvSpPr>
        <p:spPr>
          <a:xfrm>
            <a:off x="609480" y="401760"/>
            <a:ext cx="3678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emental Figure S1. Soil moisture in AWD plots as measured by volumetric water content (VWC: decimal fraction) for the three years of the study.  Blue diamond symbols were daily averages of continuous measurements from buried probes with a data logger (Campbell Scientific, Logan UT) over three Cheniere replications. Rain events are denoted by red or red-bordered diamond symbols. Separate hand-held probe readings provided the data for VWC in plots of Cheniere, Rondo, and XP753, or bare soil just before reflooding (symbols: square, circle, triangle, and tan colored diamond, respectivel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5:19:35Z</dcterms:created>
  <dc:creator>David R. Gealy</dc:creator>
  <dc:description/>
  <dc:language>en-US</dc:language>
  <cp:lastModifiedBy>Gealy, David</cp:lastModifiedBy>
  <cp:lastPrinted>2014-01-21T19:37:43Z</cp:lastPrinted>
  <dcterms:modified xsi:type="dcterms:W3CDTF">2019-03-06T23:53:08Z</dcterms:modified>
  <cp:revision>231</cp:revision>
  <dc:subject/>
  <dc:title>Slide 1</dc:title>
</cp:coreProperties>
</file>