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246C-1ABB-40C7-A505-7B7D76DC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7130-E5F2-47C2-99D2-684F784C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DE8E-4B66-4701-8485-5436CFD8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A92A-53B7-416F-87F1-C3099919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66F1-1500-4583-943A-F40CC200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4CEA-C8FF-4990-A70F-F5E591B4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D811-C61C-4C18-8898-9F220363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7A70-2F10-4689-85F5-3B5C429B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D797-DA88-4926-9681-8C772EAE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7E67-3268-43F8-B64B-8F1E736C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C8BC-D164-49E1-9DBD-A9F0970A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4DDF-C195-4A81-8E40-9DEB6F8A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FE48-5F60-475D-858B-4EE62C963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5360" y="499680"/>
            <a:ext cx="8842320" cy="3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al Figure S2. Stepwise regression model predictions of mid-season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. crus-galli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y weight: As affected by early rice height at different levels of early-season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. crus-galli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densities and mid-season rice tiller densities (A and B, respectively);  And as affected by early-season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. crus-galli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densities (C) and mid-season rice tiller densities (D) at constant early rice heights of 23 cm. In C, the regression response became significantly different from zero at a mid-season rice tiller density of 330 tillers m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(P=0.0501; calculated using a ‘custom’ t-test).  In D, the regression response became significantly different from zero at an early-season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. crus-galli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density of ~≤195 plants m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(P=0.0336; calculated using a ‘custom’ t-test)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3"/>
          <p:cNvSpPr/>
          <p:nvPr/>
        </p:nvSpPr>
        <p:spPr>
          <a:xfrm>
            <a:off x="1752480" y="3433680"/>
            <a:ext cx="19051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arly rice height (c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2"/>
          <p:cNvSpPr/>
          <p:nvPr/>
        </p:nvSpPr>
        <p:spPr>
          <a:xfrm>
            <a:off x="1981080" y="3435480"/>
            <a:ext cx="19051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arly rice height (c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17"/>
          <p:cNvGrpSpPr/>
          <p:nvPr/>
        </p:nvGrpSpPr>
        <p:grpSpPr>
          <a:xfrm>
            <a:off x="4724280" y="914400"/>
            <a:ext cx="3787920" cy="5811840"/>
            <a:chOff x="4724280" y="914400"/>
            <a:chExt cx="3787920" cy="5811840"/>
          </a:xfrm>
        </p:grpSpPr>
        <p:grpSp>
          <p:nvGrpSpPr>
            <p:cNvPr id="45" name="Group 11"/>
            <p:cNvGrpSpPr/>
            <p:nvPr/>
          </p:nvGrpSpPr>
          <p:grpSpPr>
            <a:xfrm>
              <a:off x="4724280" y="914400"/>
              <a:ext cx="3787920" cy="5811840"/>
              <a:chOff x="4724280" y="914400"/>
              <a:chExt cx="3787920" cy="5811840"/>
            </a:xfrm>
          </p:grpSpPr>
          <p:grpSp>
            <p:nvGrpSpPr>
              <p:cNvPr id="46" name="Group 10"/>
              <p:cNvGrpSpPr/>
              <p:nvPr/>
            </p:nvGrpSpPr>
            <p:grpSpPr>
              <a:xfrm>
                <a:off x="4724280" y="914400"/>
                <a:ext cx="3787920" cy="5811840"/>
                <a:chOff x="4724280" y="914400"/>
                <a:chExt cx="3787920" cy="5811840"/>
              </a:xfrm>
            </p:grpSpPr>
            <p:grpSp>
              <p:nvGrpSpPr>
                <p:cNvPr id="47" name="Group 5"/>
                <p:cNvGrpSpPr/>
                <p:nvPr/>
              </p:nvGrpSpPr>
              <p:grpSpPr>
                <a:xfrm>
                  <a:off x="4724280" y="914400"/>
                  <a:ext cx="3787920" cy="5811840"/>
                  <a:chOff x="4724280" y="914400"/>
                  <a:chExt cx="3787920" cy="5811840"/>
                </a:xfrm>
              </p:grpSpPr>
              <p:grpSp>
                <p:nvGrpSpPr>
                  <p:cNvPr id="48" name="Group 3"/>
                  <p:cNvGrpSpPr/>
                  <p:nvPr/>
                </p:nvGrpSpPr>
                <p:grpSpPr>
                  <a:xfrm>
                    <a:off x="4724280" y="942120"/>
                    <a:ext cx="3787920" cy="5784120"/>
                    <a:chOff x="4724280" y="942120"/>
                    <a:chExt cx="3787920" cy="5784120"/>
                  </a:xfrm>
                </p:grpSpPr>
                <p:pic>
                  <p:nvPicPr>
                    <p:cNvPr id="49" name="Picture 2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4724280" y="942120"/>
                      <a:ext cx="3787920" cy="284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0" name="Picture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24280" y="3885480"/>
                      <a:ext cx="3787920" cy="284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1" name="TextBox 14"/>
                  <p:cNvSpPr/>
                  <p:nvPr/>
                </p:nvSpPr>
                <p:spPr>
                  <a:xfrm rot="16200000">
                    <a:off x="3701520" y="2324160"/>
                    <a:ext cx="2322000" cy="23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Mid-season </a:t>
                    </a:r>
                    <a:r>
                      <a:rPr b="0" i="1" lang="en-US" sz="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. crus-galli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dry weight (g m</a:t>
                    </a:r>
                    <a:r>
                      <a:rPr b="0" lang="en-US" sz="900" spc="-1" strike="noStrike" baseline="30000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-2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)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TextBox 15"/>
                  <p:cNvSpPr/>
                  <p:nvPr/>
                </p:nvSpPr>
                <p:spPr>
                  <a:xfrm rot="16200000">
                    <a:off x="3701520" y="5283000"/>
                    <a:ext cx="2322000" cy="23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Mid-season </a:t>
                    </a:r>
                    <a:r>
                      <a:rPr b="0" i="1" lang="en-US" sz="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. crus-galli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dry weight (g m</a:t>
                    </a:r>
                    <a:r>
                      <a:rPr b="0" lang="en-US" sz="900" spc="-1" strike="noStrike" baseline="30000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-2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)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TextBox 19"/>
                  <p:cNvSpPr/>
                  <p:nvPr/>
                </p:nvSpPr>
                <p:spPr>
                  <a:xfrm>
                    <a:off x="4728960" y="914400"/>
                    <a:ext cx="37630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C.  Mid-season </a:t>
                    </a:r>
                    <a:r>
                      <a:rPr b="0" i="1" lang="en-US" sz="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. crus-galli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dry weight vs. early </a:t>
                    </a:r>
                    <a:r>
                      <a:rPr b="0" i="1" lang="en-US" sz="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. crus-galli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lant density (with early rice height=23 cm) 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TextBox 20"/>
                  <p:cNvSpPr/>
                  <p:nvPr/>
                </p:nvSpPr>
                <p:spPr>
                  <a:xfrm>
                    <a:off x="4724280" y="3891600"/>
                    <a:ext cx="37681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D.  Mid-season </a:t>
                    </a:r>
                    <a:r>
                      <a:rPr b="0" i="1" lang="en-US" sz="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. crus-galli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dry weight vs. mid-season rice tiller density (with early rice height=23 cm) 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" name="Group 9"/>
                <p:cNvGrpSpPr/>
                <p:nvPr/>
              </p:nvGrpSpPr>
              <p:grpSpPr>
                <a:xfrm>
                  <a:off x="5221800" y="3465000"/>
                  <a:ext cx="677160" cy="334440"/>
                  <a:chOff x="5221800" y="3465000"/>
                  <a:chExt cx="677160" cy="334440"/>
                </a:xfrm>
              </p:grpSpPr>
              <p:sp>
                <p:nvSpPr>
                  <p:cNvPr id="56" name="TextBox 26"/>
                  <p:cNvSpPr/>
                  <p:nvPr/>
                </p:nvSpPr>
                <p:spPr>
                  <a:xfrm>
                    <a:off x="5311440" y="3465000"/>
                    <a:ext cx="457200" cy="215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TextBox 27"/>
                  <p:cNvSpPr/>
                  <p:nvPr/>
                </p:nvSpPr>
                <p:spPr>
                  <a:xfrm>
                    <a:off x="5221800" y="3583800"/>
                    <a:ext cx="677160" cy="215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Tillers m</a:t>
                    </a:r>
                    <a:r>
                      <a:rPr b="0" lang="en-US" sz="800" spc="-1" strike="noStrike" baseline="30000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-2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: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" name="TextBox 33"/>
              <p:cNvSpPr/>
              <p:nvPr/>
            </p:nvSpPr>
            <p:spPr>
              <a:xfrm>
                <a:off x="5105160" y="3364920"/>
                <a:ext cx="3124440" cy="21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arly </a:t>
                </a: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. crus-galli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lant density (no. m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-2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16"/>
            <p:cNvGrpSpPr/>
            <p:nvPr/>
          </p:nvGrpSpPr>
          <p:grpSpPr>
            <a:xfrm>
              <a:off x="5048640" y="6113520"/>
              <a:ext cx="2913120" cy="611640"/>
              <a:chOff x="5048640" y="6113520"/>
              <a:chExt cx="2913120" cy="611640"/>
            </a:xfrm>
          </p:grpSpPr>
          <p:sp>
            <p:nvSpPr>
              <p:cNvPr id="60" name="TextBox 35"/>
              <p:cNvSpPr/>
              <p:nvPr/>
            </p:nvSpPr>
            <p:spPr>
              <a:xfrm>
                <a:off x="5048640" y="6266160"/>
                <a:ext cx="849960" cy="45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arly </a:t>
                </a: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. crus-galli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nsity (plants m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-2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):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Box 36"/>
              <p:cNvSpPr/>
              <p:nvPr/>
            </p:nvSpPr>
            <p:spPr>
              <a:xfrm>
                <a:off x="5930280" y="6113520"/>
                <a:ext cx="2031480" cy="21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id-season rice tiller density (no. m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-2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6476760" y="6356160"/>
                <a:ext cx="533520" cy="10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37"/>
          <p:cNvGrpSpPr/>
          <p:nvPr/>
        </p:nvGrpSpPr>
        <p:grpSpPr>
          <a:xfrm>
            <a:off x="838080" y="923760"/>
            <a:ext cx="3810240" cy="5969160"/>
            <a:chOff x="838080" y="923760"/>
            <a:chExt cx="3810240" cy="5969160"/>
          </a:xfrm>
        </p:grpSpPr>
        <p:grpSp>
          <p:nvGrpSpPr>
            <p:cNvPr id="64" name="Group 34"/>
            <p:cNvGrpSpPr/>
            <p:nvPr/>
          </p:nvGrpSpPr>
          <p:grpSpPr>
            <a:xfrm>
              <a:off x="838080" y="923760"/>
              <a:ext cx="3810240" cy="5969160"/>
              <a:chOff x="838080" y="923760"/>
              <a:chExt cx="3810240" cy="5969160"/>
            </a:xfrm>
          </p:grpSpPr>
          <p:grpSp>
            <p:nvGrpSpPr>
              <p:cNvPr id="65" name="Group 28"/>
              <p:cNvGrpSpPr/>
              <p:nvPr/>
            </p:nvGrpSpPr>
            <p:grpSpPr>
              <a:xfrm>
                <a:off x="838080" y="923760"/>
                <a:ext cx="3810240" cy="5969160"/>
                <a:chOff x="838080" y="923760"/>
                <a:chExt cx="3810240" cy="5969160"/>
              </a:xfrm>
            </p:grpSpPr>
            <p:grpSp>
              <p:nvGrpSpPr>
                <p:cNvPr id="66" name="Group 25"/>
                <p:cNvGrpSpPr/>
                <p:nvPr/>
              </p:nvGrpSpPr>
              <p:grpSpPr>
                <a:xfrm>
                  <a:off x="838080" y="923760"/>
                  <a:ext cx="3810240" cy="5969160"/>
                  <a:chOff x="838080" y="923760"/>
                  <a:chExt cx="3810240" cy="5969160"/>
                </a:xfrm>
              </p:grpSpPr>
              <p:grpSp>
                <p:nvGrpSpPr>
                  <p:cNvPr id="67" name="Group 8"/>
                  <p:cNvGrpSpPr/>
                  <p:nvPr/>
                </p:nvGrpSpPr>
                <p:grpSpPr>
                  <a:xfrm>
                    <a:off x="838080" y="923760"/>
                    <a:ext cx="3810240" cy="5814000"/>
                    <a:chOff x="838080" y="923760"/>
                    <a:chExt cx="3810240" cy="5814000"/>
                  </a:xfrm>
                </p:grpSpPr>
                <p:grpSp>
                  <p:nvGrpSpPr>
                    <p:cNvPr id="68" name="Group 4"/>
                    <p:cNvGrpSpPr/>
                    <p:nvPr/>
                  </p:nvGrpSpPr>
                  <p:grpSpPr>
                    <a:xfrm>
                      <a:off x="838080" y="923760"/>
                      <a:ext cx="3810240" cy="5814000"/>
                      <a:chOff x="838080" y="923760"/>
                      <a:chExt cx="3810240" cy="5814000"/>
                    </a:xfrm>
                  </p:grpSpPr>
                  <p:grpSp>
                    <p:nvGrpSpPr>
                      <p:cNvPr id="69" name="Group 2"/>
                      <p:cNvGrpSpPr/>
                      <p:nvPr/>
                    </p:nvGrpSpPr>
                    <p:grpSpPr>
                      <a:xfrm>
                        <a:off x="838080" y="946080"/>
                        <a:ext cx="3810240" cy="5791680"/>
                        <a:chOff x="838080" y="946080"/>
                        <a:chExt cx="3810240" cy="5791680"/>
                      </a:xfrm>
                    </p:grpSpPr>
                    <p:pic>
                      <p:nvPicPr>
                        <p:cNvPr id="70" name="Picture 2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860040" y="946080"/>
                          <a:ext cx="3788280" cy="28400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71" name="Picture 3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838080" y="3880800"/>
                          <a:ext cx="3808080" cy="2856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  <p:sp>
                    <p:nvSpPr>
                      <p:cNvPr id="72" name="TextBox 1"/>
                      <p:cNvSpPr/>
                      <p:nvPr/>
                    </p:nvSpPr>
                    <p:spPr>
                      <a:xfrm rot="16200000">
                        <a:off x="-150480" y="2308680"/>
                        <a:ext cx="2322000" cy="2311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Mid-season </a:t>
                        </a:r>
                        <a:r>
                          <a:rPr b="0" i="1" lang="en-US" sz="9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E. crus-galli </a:t>
                        </a: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dry weight (g m</a:t>
                        </a:r>
                        <a:r>
                          <a:rPr b="0" lang="en-US" sz="900" spc="-1" strike="noStrike" baseline="30000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-2</a:t>
                        </a: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)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" name="TextBox 13"/>
                      <p:cNvSpPr/>
                      <p:nvPr/>
                    </p:nvSpPr>
                    <p:spPr>
                      <a:xfrm rot="16200000">
                        <a:off x="-178920" y="5271480"/>
                        <a:ext cx="2322000" cy="2311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Mid-season </a:t>
                        </a:r>
                        <a:r>
                          <a:rPr b="0" i="1" lang="en-US" sz="9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E. crus-galli </a:t>
                        </a: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dry weight (g m</a:t>
                        </a:r>
                        <a:r>
                          <a:rPr b="0" lang="en-US" sz="900" spc="-1" strike="noStrike" baseline="30000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-2</a:t>
                        </a: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)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" name="TextBox 3"/>
                      <p:cNvSpPr/>
                      <p:nvPr/>
                    </p:nvSpPr>
                    <p:spPr>
                      <a:xfrm>
                        <a:off x="866160" y="923760"/>
                        <a:ext cx="3763080" cy="2311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 </a:t>
                        </a: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A.  Mid-season </a:t>
                        </a:r>
                        <a:r>
                          <a:rPr b="0" i="1" lang="en-US" sz="9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E. crus-galli </a:t>
                        </a: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dry weight vs. early rice height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" name="TextBox 18"/>
                      <p:cNvSpPr/>
                      <p:nvPr/>
                    </p:nvSpPr>
                    <p:spPr>
                      <a:xfrm>
                        <a:off x="843840" y="3858840"/>
                        <a:ext cx="3785400" cy="2311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 </a:t>
                        </a: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B.  Mid-season </a:t>
                        </a:r>
                        <a:r>
                          <a:rPr b="0" i="1" lang="en-US" sz="9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E. crus-galli </a:t>
                        </a: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dry weight vs. early rice height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6" name="Group 7"/>
                    <p:cNvGrpSpPr/>
                    <p:nvPr/>
                  </p:nvGrpSpPr>
                  <p:grpSpPr>
                    <a:xfrm>
                      <a:off x="1674000" y="3475800"/>
                      <a:ext cx="677160" cy="334080"/>
                      <a:chOff x="1674000" y="3475800"/>
                      <a:chExt cx="677160" cy="334080"/>
                    </a:xfrm>
                  </p:grpSpPr>
                  <p:sp>
                    <p:nvSpPr>
                      <p:cNvPr id="77" name="TextBox 6"/>
                      <p:cNvSpPr/>
                      <p:nvPr/>
                    </p:nvSpPr>
                    <p:spPr>
                      <a:xfrm>
                        <a:off x="1749960" y="3475800"/>
                        <a:ext cx="457200" cy="2156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" name="TextBox 24"/>
                      <p:cNvSpPr/>
                      <p:nvPr/>
                    </p:nvSpPr>
                    <p:spPr>
                      <a:xfrm>
                        <a:off x="1674000" y="3594240"/>
                        <a:ext cx="677160" cy="2156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Tillers m</a:t>
                        </a:r>
                        <a:r>
                          <a:rPr b="0" lang="en-US" sz="800" spc="-1" strike="noStrike" baseline="30000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-2</a:t>
                        </a: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: 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9" name="Group 22"/>
                  <p:cNvGrpSpPr/>
                  <p:nvPr/>
                </p:nvGrpSpPr>
                <p:grpSpPr>
                  <a:xfrm>
                    <a:off x="1238400" y="6348600"/>
                    <a:ext cx="2495160" cy="544320"/>
                    <a:chOff x="1238400" y="6348600"/>
                    <a:chExt cx="2495160" cy="544320"/>
                  </a:xfrm>
                </p:grpSpPr>
                <p:sp>
                  <p:nvSpPr>
                    <p:cNvPr id="80" name="TextBox 41"/>
                    <p:cNvSpPr/>
                    <p:nvPr/>
                  </p:nvSpPr>
                  <p:spPr>
                    <a:xfrm>
                      <a:off x="2209320" y="6348600"/>
                      <a:ext cx="1524240" cy="215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arly rice height (cm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Rectangle 21"/>
                    <p:cNvSpPr/>
                    <p:nvPr/>
                  </p:nvSpPr>
                  <p:spPr>
                    <a:xfrm>
                      <a:off x="1758600" y="6489720"/>
                      <a:ext cx="463320" cy="164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TextBox 40"/>
                    <p:cNvSpPr/>
                    <p:nvPr/>
                  </p:nvSpPr>
                  <p:spPr>
                    <a:xfrm>
                      <a:off x="1238400" y="6433920"/>
                      <a:ext cx="1089720" cy="459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arly </a:t>
                      </a: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. crus-galli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nsity (plants m</a:t>
                      </a:r>
                      <a:r>
                        <a:rPr b="0" lang="en-US" sz="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: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3" name="TextBox 45"/>
                <p:cNvSpPr/>
                <p:nvPr/>
              </p:nvSpPr>
              <p:spPr>
                <a:xfrm>
                  <a:off x="2367000" y="3392640"/>
                  <a:ext cx="1275840" cy="21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arly rice height (cm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" name="TextBox 29"/>
              <p:cNvSpPr/>
              <p:nvPr/>
            </p:nvSpPr>
            <p:spPr>
              <a:xfrm>
                <a:off x="1676160" y="4352760"/>
                <a:ext cx="66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illers m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-2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2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TextBox 48"/>
              <p:cNvSpPr/>
              <p:nvPr/>
            </p:nvSpPr>
            <p:spPr>
              <a:xfrm>
                <a:off x="2689200" y="4352760"/>
                <a:ext cx="66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illers m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-2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23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TextBox 49"/>
              <p:cNvSpPr/>
              <p:nvPr/>
            </p:nvSpPr>
            <p:spPr>
              <a:xfrm>
                <a:off x="3795120" y="4352760"/>
                <a:ext cx="66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illers m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-2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27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30"/>
              <p:cNvSpPr/>
              <p:nvPr/>
            </p:nvSpPr>
            <p:spPr>
              <a:xfrm>
                <a:off x="1295280" y="4098960"/>
                <a:ext cx="3277080" cy="128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Rectangle 54"/>
            <p:cNvSpPr/>
            <p:nvPr/>
          </p:nvSpPr>
          <p:spPr>
            <a:xfrm>
              <a:off x="1309320" y="1161720"/>
              <a:ext cx="327708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55"/>
            <p:cNvSpPr/>
            <p:nvPr/>
          </p:nvSpPr>
          <p:spPr>
            <a:xfrm>
              <a:off x="1705680" y="1228320"/>
              <a:ext cx="609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rly 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. crus-galli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nsity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5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56"/>
            <p:cNvSpPr/>
            <p:nvPr/>
          </p:nvSpPr>
          <p:spPr>
            <a:xfrm>
              <a:off x="2743200" y="1228320"/>
              <a:ext cx="609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rly 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. crus-galli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nsi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8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57"/>
            <p:cNvSpPr/>
            <p:nvPr/>
          </p:nvSpPr>
          <p:spPr>
            <a:xfrm>
              <a:off x="3810240" y="1228320"/>
              <a:ext cx="609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rly 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. crus-galli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nsi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=2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5:19:35Z</dcterms:created>
  <dc:creator>David R. Gealy</dc:creator>
  <dc:description/>
  <dc:language>en-US</dc:language>
  <cp:lastModifiedBy>Gealy, David</cp:lastModifiedBy>
  <cp:lastPrinted>2014-01-21T19:37:43Z</cp:lastPrinted>
  <dcterms:modified xsi:type="dcterms:W3CDTF">2019-03-06T23:55:13Z</dcterms:modified>
  <cp:revision>272</cp:revision>
  <dc:subject/>
  <dc:title>Slide 1</dc:title>
</cp:coreProperties>
</file>